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camera.wav" ContentType="audio/x-wav"/>
  <Override PartName="/ppt/media/explode.wav" ContentType="audio/x-wav"/>
  <Override PartName="/ppt/media/image7.jpeg" ContentType="image/jpeg"/>
  <Override PartName="/ppt/media/image2.jpeg" ContentType="image/jpeg"/>
  <Override PartName="/ppt/media/image4.jpeg" ContentType="image/jpeg"/>
  <Override PartName="/ppt/media/suction.wav" ContentType="audio/x-wav"/>
  <Override PartName="/ppt/media/image6.jpeg" ContentType="image/jpeg"/>
  <Override PartName="/ppt/media/image5.jpeg" ContentType="image/jpeg"/>
  <Override PartName="/ppt/media/breeze.wav" ContentType="audio/x-wav"/>
  <Override PartName="/ppt/media/applause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445AB-7822-44EA-AC17-A71C0CE605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F4E99-158F-438C-AA20-2014DF76E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B269C-E488-4596-8599-BDA86C23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32328-E747-4317-A9BF-5805B84FA7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C4CC0-F0BA-46D8-A3D1-1F45FDB2F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B8C70-AE4E-4908-A42D-201F9E842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7C2A5-A3E8-41E6-87B3-B70168517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487FA-7164-4041-AA5F-8D4E09D83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F7171-0031-493C-A6A5-4C090824F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7D9C2-15CF-4378-A62E-9695C8EB4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33E5B-1BB6-46F9-B2F2-3A8B5D3FE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3C826-76C0-4A3B-84E5-9861F1920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304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07/05/1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304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3642F5-C5BB-4808-98DA-44DC525B502F}" type="slidenum">
              <a:rPr b="0" lang="es-E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179280" y="1800360"/>
            <a:ext cx="8353440" cy="2700360"/>
          </a:xfrm>
          <a:prstGeom prst="flowChartPunchedTape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684360" y="620640"/>
            <a:ext cx="8084880" cy="51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Britannic Bold"/>
              </a:rPr>
              <a:t>Little Red Ringing Tone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fade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1"/>
          <p:cNvSpPr/>
          <p:nvPr/>
        </p:nvSpPr>
        <p:spPr>
          <a:xfrm>
            <a:off x="34920" y="333360"/>
            <a:ext cx="2305080" cy="6146640"/>
          </a:xfrm>
          <a:prstGeom prst="rect">
            <a:avLst/>
          </a:prstGeom>
          <a:gradFill rotWithShape="0">
            <a:gsLst>
              <a:gs pos="0">
                <a:srgbClr val="c3ffe8"/>
              </a:gs>
              <a:gs pos="100000">
                <a:srgbClr val="edfff8"/>
              </a:gs>
            </a:gsLst>
            <a:lin ang="16200000"/>
          </a:gradFill>
          <a:ln w="9360">
            <a:solidFill>
              <a:srgbClr val="a5de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ittle Red Ringing Tone is a Little girl who lives near the forest. She is very happy with her new mobile phon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One spring morning she hears “beep-click-beep”. It is her fax machine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re is a long list of groceries her grandma needs: cookies, sugar, ink and some washing powder, to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o Little Red Ringing Tone sends a text messag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Dear Granny, don´t worry. I will be at your door with the groceries very soon.”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2228760" y="744480"/>
            <a:ext cx="6784920" cy="532944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 spd="slow">
    <p:cover dir="l"/>
    <p:sndAc>
      <p:stSnd>
        <p:snd r:embed="rId2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3 Rectángulo redondeado"/>
          <p:cNvSpPr/>
          <p:nvPr/>
        </p:nvSpPr>
        <p:spPr>
          <a:xfrm>
            <a:off x="108000" y="549360"/>
            <a:ext cx="2376360" cy="5759280"/>
          </a:xfrm>
          <a:custGeom>
            <a:avLst/>
            <a:gdLst>
              <a:gd name="textAreaLeft" fmla="*/ 115920 w 2376360"/>
              <a:gd name="textAreaRight" fmla="*/ 2260440 w 2376360"/>
              <a:gd name="textAreaTop" fmla="*/ 115920 h 5759280"/>
              <a:gd name="textAreaBottom" fmla="*/ 5643360 h 5759280"/>
            </a:gdLst>
            <a:ahLst/>
            <a:rect l="textAreaLeft" t="textAreaTop" r="textAreaRight" b="textAreaBottom"/>
            <a:pathLst>
              <a:path w="21600" h="52345">
                <a:moveTo>
                  <a:pt x="3600" y="0"/>
                </a:moveTo>
                <a:arcTo wR="3600" hR="3600" stAng="16200000" swAng="-5400000"/>
                <a:lnTo>
                  <a:pt x="0" y="48745"/>
                </a:lnTo>
                <a:arcTo wR="3600" hR="3600" stAng="10800000" swAng="-5400000"/>
                <a:lnTo>
                  <a:pt x="18000" y="523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3ffe8"/>
              </a:gs>
              <a:gs pos="100000">
                <a:srgbClr val="edfff8"/>
              </a:gs>
            </a:gsLst>
            <a:lin ang="16200000"/>
          </a:gradFill>
          <a:ln w="9360">
            <a:solidFill>
              <a:srgbClr val="60c99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3 Marcador de fecha"/>
          <p:cNvSpPr/>
          <p:nvPr/>
        </p:nvSpPr>
        <p:spPr>
          <a:xfrm>
            <a:off x="38160" y="476280"/>
            <a:ext cx="259236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ut, oh, no ! Her small finger presses a wrong number and hungry Wicked Pierced Wolf picks her message!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cked Pierced Wolf quickly writes:”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Honey dear, I´d like some flowers, too. So, please take the long path and pick them on your way.”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ttle Red Ringing Tone buys the groceries and sets off down the long path to pick the flowers for Granny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" name="2 Imagen" descr=""/>
          <p:cNvPicPr/>
          <p:nvPr/>
        </p:nvPicPr>
        <p:blipFill>
          <a:blip r:embed="rId1"/>
          <a:stretch/>
        </p:blipFill>
        <p:spPr>
          <a:xfrm>
            <a:off x="2627280" y="835200"/>
            <a:ext cx="6184800" cy="4824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"/>
          <p:cNvSpPr/>
          <p:nvPr/>
        </p:nvSpPr>
        <p:spPr>
          <a:xfrm>
            <a:off x="395280" y="4869000"/>
            <a:ext cx="8353440" cy="165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395280" y="4856040"/>
            <a:ext cx="842652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eanwhile, Wicked Pierced Wolf takes the short path and he soon arrives at Granny´s house. When the wolf knocks at the door, Granny´s chatting with her good friend, the Woodcutter. 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Whoisit?Sheasked. “It´s me,Granny. LittleRedRinging tone.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en Granny opens the door, Wicked Pierced Wolf falls on her. He ties her, hides her into the wardrobe, puts her clothes on and gets into the bed. Luckily, Granny´s webcam is on and good Woodcutter can see everything!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1835280" y="119160"/>
            <a:ext cx="6024600" cy="472284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 spd="slow">
    <p:wipe dir="l"/>
    <p:sndAc>
      <p:stSnd>
        <p:snd r:embed="rId2" name="suction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1"/>
          <p:cNvSpPr/>
          <p:nvPr/>
        </p:nvSpPr>
        <p:spPr>
          <a:xfrm>
            <a:off x="324000" y="5157720"/>
            <a:ext cx="8640720" cy="14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50920" y="5111640"/>
            <a:ext cx="87138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en Little Red Ringing Tone knocks at the door, Wicked Pierced Wolf is very warm in bed, listening to the radio, watching the news on TV and reading Granny´s newspaper. He´s having fun and thinking “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I want to have all these things in my home”.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Who is it? 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He asks.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“It´s me Granny. Little Red Ringing Tone.”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1476360" y="115920"/>
            <a:ext cx="6467400" cy="503856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 spd="med">
    <p:fade/>
    <p:sndAc>
      <p:stSnd>
        <p:snd r:embed="rId2" name="breez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AutoShape 1"/>
          <p:cNvSpPr/>
          <p:nvPr/>
        </p:nvSpPr>
        <p:spPr>
          <a:xfrm>
            <a:off x="324000" y="5300640"/>
            <a:ext cx="820872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468360" y="4678200"/>
            <a:ext cx="7775640" cy="20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ittle Red Ringing Tone opens the door, Wicked Pierced Wolf falls on her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e ties her up and hides her into the wardrobe with Granny. 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ut, while Wicked Pierced Wolf is putting Granny´s things in a big bag, the good Woodcutter calls the police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47640" y="141120"/>
            <a:ext cx="6372360" cy="497376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 spd="slow">
    <p:cover dir="l"/>
    <p:sndAc>
      <p:stSnd>
        <p:snd r:embed="rId2" name="explod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1"/>
          <p:cNvSpPr/>
          <p:nvPr/>
        </p:nvSpPr>
        <p:spPr>
          <a:xfrm>
            <a:off x="539640" y="5040360"/>
            <a:ext cx="8099640" cy="16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770040" y="4863960"/>
            <a:ext cx="822960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y arrive just in time to catch the greedy Wicked Pierced Wolf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y free Little Red Ringing Tone and her granny and take Wicked Pierced Wolf to prison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 the end, Little Red Ringing Tone and Granny thank the good Woodcutter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y are all very happy again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rcRect l="1138" t="0" r="0" b="0"/>
          <a:stretch/>
        </p:blipFill>
        <p:spPr>
          <a:xfrm>
            <a:off x="1440000" y="260280"/>
            <a:ext cx="6265800" cy="478008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 spd="slow">
    <p:checker dir="horz"/>
    <p:sndAc>
      <p:stSnd>
        <p:snd r:embed="rId2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5T19:28:52Z</dcterms:created>
  <dc:creator>Isabel</dc:creator>
  <dc:description/>
  <dc:language>en-US</dc:language>
  <cp:lastModifiedBy>Isabel</cp:lastModifiedBy>
  <dcterms:modified xsi:type="dcterms:W3CDTF">2012-05-10T18:11:39Z</dcterms:modified>
  <cp:revision>27</cp:revision>
  <dc:subject/>
  <dc:title>Little Red Ringing Tone</dc:title>
</cp:coreProperties>
</file>